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30D-81A2-44DB-B49F-9304FD09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CA4-B04A-4789-AF16-B6B35C1E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93C-CC0B-4968-ACA3-23965743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D95-6D3D-4208-9837-66D4DB19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B8FE-26AC-4BD2-84D7-EB8A9DE7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C6A-2C3E-42C4-966C-C1C5F2C3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9688-2CAC-4502-A2B5-88BD473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2D6-D66D-40A3-AC76-A611582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28D-3328-424D-B27C-CB5CC60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FA2-8AB1-4254-9A28-C3AF6D5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E24-C27C-4302-BDB7-4FE6A77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988-17B8-421A-883E-0D61EFE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10DF-8928-4CA6-9A12-D5210E9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D29-E6DB-497C-BE07-8EA2373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4767-8D84-4D27-B6EB-C8376EA6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5AB-A883-4CF6-AF51-F4C3BE11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A188-35C3-40B2-B8BA-055E379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A72-FD85-4A86-AD69-915B68B5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589-07A9-4448-A352-F1CF9FA1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670-2BF6-45E0-8BDA-0B7745A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A8C-ADB5-4014-BBE8-CAACD32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6D0-BB60-48F2-B049-9CEE437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497-B93B-4DF3-94B1-0ACCF18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037-30DD-41FD-AECE-DFFA4D9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0988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46EB-6ACA-458D-82FC-54338BF4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210-4A80-434B-AF4F-21B6116D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7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</a:t>
            </a:r>
            <a:br>
              <a:rPr sz="4000"/>
            </a:b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H1: FY2002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ctober 25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Indian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0080" y="1771560"/>
          <a:ext cx="830592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771560"/>
                    <a:ext cx="83059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996960" y="1371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57056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21% increase in Indian GAAP consolidated pro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60956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956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7" name=""/>
          <p:cNvSpPr/>
          <p:nvPr/>
        </p:nvSpPr>
        <p:spPr>
          <a:xfrm>
            <a:off x="78548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0532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Net income, includes the cumulative effect of accounting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of Rs. 0.89 billion in H1-FY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592360"/>
          <a:ext cx="373392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2360"/>
                    <a:ext cx="373392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876920" y="2666880"/>
          <a:ext cx="42670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720" y="220968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3480" y="26193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95840" y="216216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0084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14.12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43.4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 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 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6320" y="2743200"/>
          <a:ext cx="4211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211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2666880"/>
          <a:ext cx="43434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343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020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500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46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8.7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020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2.0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2040" y="914400"/>
          <a:ext cx="5246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14400"/>
                    <a:ext cx="5246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08160" y="1825560"/>
            <a:ext cx="7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1080" y="18194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Maintaining high quality of busines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49640" y="1143000"/>
            <a:ext cx="337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Approvals to clients rated ‘A-’ &amp; above at 93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isbursements to clients rated ‘A-’ &amp; above at 88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3657600"/>
          <a:ext cx="52466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657600"/>
                    <a:ext cx="52466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066680" y="44197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441972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914400"/>
            <a:ext cx="38124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581280"/>
            <a:ext cx="3812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Disburs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756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2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2101680"/>
          <a:ext cx="42703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1680"/>
                    <a:ext cx="42703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Sept 30, 2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164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59.2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25909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152280" y="1390680"/>
          <a:ext cx="100965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390680"/>
                    <a:ext cx="100965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39152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676520"/>
          <a:ext cx="82864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8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945120" y="12160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1847880"/>
          <a:ext cx="830556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7880"/>
                    <a:ext cx="8305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7640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144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  Includes  debentures of Rs 1.40 bn classified as advances subsequent to March 31, 2001, following clarifications from RBI on classification of deben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325764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4760" y="501336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ch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8520" y="49975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pt 3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609480" y="2209680"/>
          <a:ext cx="6237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9680"/>
                    <a:ext cx="6237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06640" y="2206800"/>
          <a:ext cx="623736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2206800"/>
                    <a:ext cx="62373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3808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Jun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Septemb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73080" y="1523880"/>
          <a:ext cx="9269640" cy="34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523880"/>
                    <a:ext cx="9269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999560" y="10666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000" y="4433040"/>
            <a:ext cx="73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)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) Provision for tax for H1-FY02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40" y="341316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rofit to equity holders (net of preference dividend payout)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by 16% in H1-FY0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16040"/>
          <a:ext cx="9615600" cy="38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6040"/>
                    <a:ext cx="9615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075520" y="127944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295280"/>
          <a:ext cx="868680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6868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924680" y="8985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105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Includes Rs.0.39 bn on account of provision for restructured as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76320" y="990720"/>
          <a:ext cx="939168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90720"/>
                    <a:ext cx="93916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924680" y="609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14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Represents additional charge following clarifications issu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BI on investment valuation guidelines. This amount re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o period prior to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066680"/>
          <a:ext cx="10058400" cy="52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1005840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083440" y="685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447920"/>
          <a:ext cx="90676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067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56640" y="99072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3440" y="495288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fter netting off deferred tax liability of Rs. 3.50 bn, which is now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under current and other li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 (Indian GAAP)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4160" y="1371600"/>
          <a:ext cx="8889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371600"/>
                    <a:ext cx="8889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14400" y="4343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2) After adding back accelerated provisions and write-off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s. 8.1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3) Net income from operations includes net fund-based inco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fees &amp; commissions and dividen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1-10-25T05:36:53Z</cp:lastPrinted>
  <dcterms:modified xsi:type="dcterms:W3CDTF">2002-03-11T07:14:41Z</dcterms:modified>
  <cp:revision>188</cp:revision>
  <dc:subject/>
  <dc:title>Agenda</dc:title>
</cp:coreProperties>
</file>